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1B95-C51F-46EA-9818-D86CA10E0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DE6A-3EAA-4527-ACCA-DB881DDE0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507F-0730-48B5-81A0-BC78AE2AE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53B3-2CF9-47FA-AE3C-F45403E31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5387-6B39-4AAE-9108-F079FAB4D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579D-E957-4DCF-BC5D-47CF4CF22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E3AA-EABB-4C9A-BA32-4541EB8EE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F87F-17E4-4549-BA02-A312A7C49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26F3-2DBA-4AE5-B336-B13BC1A74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B696-9CD7-425E-94EC-253C7723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85DD-8EF7-4FAB-8967-1B1B281C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F94D-1C9A-4AF2-A474-87EC3115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FA7CA-529E-4CB9-868C-3124B72128D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C:\Documents and Settings\JLubecka\Ustawienia lokalne\Temporary Internet Files\Content.IE5\AJY4M1XL\Roman Dmowski.pp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396720" y="11592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539640" y="1413000"/>
            <a:ext cx="7632720" cy="4229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Calibri"/>
              </a:rPr>
              <a:t>Utworzony został 15.08.1917 roku w Lozannie z inicjatywy </a:t>
            </a:r>
            <a:r>
              <a:rPr b="0" lang="pl-PL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Romana Dmowskiego</a:t>
            </a:r>
            <a:r>
              <a:rPr b="0" lang="pl-PL" sz="2000" spc="-1" strike="noStrike">
                <a:solidFill>
                  <a:srgbClr val="ffffff"/>
                </a:solidFill>
                <a:latin typeface="Calibri"/>
              </a:rPr>
              <a:t>. Siedzibą Komitetu był Pary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"/>
              </a:rPr>
              <a:t>W skład Komitetu wchodzili m.in. Ignacy Jan Paderewski, Erazm Piltz, Stanisław Kozicki, Marian Seyda, Maurycy Zamoysk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"/>
              </a:rPr>
              <a:t>Celem Komitetu było organizowanie Armii Polskiej we Francji oraz współpraca z rządami Francji, Wielkiej Brytanii, Włoch, i USA 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Calibri"/>
              </a:rPr>
              <a:t>w kwestii reprezentowania interesów odradzającego się państwa Polskie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Calibri"/>
              </a:rPr>
              <a:t>Po utworzeniu w styczniu 1919 roku rządu Ignacego Paderewskiego, Komitet stał się oficjalnym reprezentantem rządu Polskiego podczas Paryskiej Konferencji Pokojowej oraz rzecznikiem jego interesów 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Calibri"/>
              </a:rPr>
              <a:t>w trakcie Wersalski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7T11:51:01Z</dcterms:created>
  <dc:creator>rena</dc:creator>
  <dc:description/>
  <dc:language>en-US</dc:language>
  <cp:lastModifiedBy>IB</cp:lastModifiedBy>
  <dcterms:modified xsi:type="dcterms:W3CDTF">2013-03-14T17:05:13Z</dcterms:modified>
  <cp:revision>10</cp:revision>
  <dc:subject/>
  <dc:title>PowerPoint Presentation</dc:title>
</cp:coreProperties>
</file>